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C6F1-FD47-4C86-9126-BB903CFBE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What are the aims and methods of psychoanalysis, and how have they been adapted in psychodynamic thera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2: What are the basic themes of humanistic therapy, such as Rogers’ client-centered approa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3: What are the assumptions and techniques of the behavior therap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at are the goals and techniques of the cognitive therap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5: What are the aims and benefits of group and family thera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6: Does psychotherapy work? Who dec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7: Are some therapies more effective than oth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8: How do alternative therapies fare under scientific scrutin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9: What three elements are shared by all forms of psychothera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0: How do culture and values influence the therapist-client relationship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1: What are the drug therapies? What criticisms have been leveled against drug therap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2: How effective is electroconvulsive therapy, and what other brain-stimulation options may offer relief from severe depress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3: What is psychosurge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4: How, by caring for their bodies with a healthy lifestyle, might people find some relief from dep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5: What is the rationale for preventive mental health progra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D04-8711-4FCF-A235-88D81F8D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70D-A731-4B9A-B020-575510E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B1A-DB5B-42AA-81EA-E79AECBD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04C-B701-4F78-A8D7-A044B31A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600-3A12-4244-B7F9-5D8F2CB9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340-B71A-40AF-A454-AA47E83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519-3C11-418B-813D-C8AA8176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F14-F338-4D84-AA38-605368D5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A24-2AE6-4D11-9467-1AB28B9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EF2-F226-4939-BE09-21D9A84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FD8-ECDA-4A37-8511-D58B54C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9E7-5D41-4DA4-931E-A5C5ACCA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0C90-894F-4C88-A499-325EEE4D6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27C-C5D3-4B07-B630-7168A0F104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first formal psychotherapy to emerge was psychoanalysis, developed by Sigmund Freu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1200" y="3048120"/>
            <a:ext cx="7557840" cy="234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74720" y="55468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gmund Freud's famous co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830000" y="4696200"/>
            <a:ext cx="122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Edmund Engle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C5B-6CCC-41D2-A819-3AB494DE96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ce psychological problems originate from childhood repressed impulses and conflicts, the aim of psychoanalysis is to bring repressed feelings into conscious awareness where the patient can dea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400" y="44197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energy devoted to id-ego-superego conflicts is released, the patient’s anxiety less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D48-55D6-4474-A064-2F50FCBA3A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1040" y="1600200"/>
            <a:ext cx="775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satisfied with hypnosis, Freud developed the method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ee associa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o unravel the unconscious mind and its confli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1400" y="3200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atient lies on a couch and speaks about whatever comes to his or her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81440" y="4421160"/>
            <a:ext cx="3352680" cy="220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5261040" y="547920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nglish.upenn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4BA-5A0C-4EA4-BB82-C0D87C6D2799}" type="slidenum">
              <a:t>1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uring free association, the patient edits his thoughts, resisting his or her feelings to express emotions. Suc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sista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becomes important in the analysis of conflict-drive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00" y="39625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entually the patient opens up and reveals his or her innermost private thoughts, developing positive or negative feeling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transfer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towards the therap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4F4-81F7-4E61-8A9C-D377C192368A}" type="slidenum">
              <a:t>13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Critic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sis is hard to refute because it cannot be proven or dispr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sis takes a long time and is very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ED1-2DC6-4735-9533-20F3A77E960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dynamic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fluenced by Freud, in a face-to-face setting, psychodynamic therapists understand symptoms and themes across important relationships in a patient’s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00400" y="3549600"/>
            <a:ext cx="4510080" cy="30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FCE-D378-4FB5-8C6B-0430B87D09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dynamic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rpersonal psychotherapy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 variation of psychodynamic therapy, is effective in treating depression. It focuses on symptom relief here and now, not an overall personality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985-94E5-4D57-A031-59893BF737B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istic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umanistic therapi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im to boost self-fulfillment by helping people grow in self-awareness and self-accep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DE5-1573-4729-BCA8-4F0D26E83BB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ent-Centered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ed by Carl Rogers, client-centered therapy is a form of humanistic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1400" y="3429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therapist listens to the needs of the patient in an accepting and non-judgmental way, addressing problems in a productive way and building his or her self-este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BF6-344D-4E85-BF08-C228D68B4D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9920" y="2971800"/>
            <a:ext cx="6462720" cy="3543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istic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therapist engages i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tive liste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echoes, restates, and clarifies the patient’s thinking, acknowledging expresse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396840" y="4983480"/>
            <a:ext cx="303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Michael Rougier/ </a:t>
            </a:r>
            <a:r>
              <a:rPr b="0" i="1" lang="en-US" sz="900" spc="-1" strike="noStrike">
                <a:solidFill>
                  <a:srgbClr val="000000"/>
                </a:solidFill>
                <a:latin typeface="Palatino Linotype"/>
              </a:rPr>
              <a:t>Life 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Magazine © Time Warner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F33-7122-4B75-9001-4CDBA6B380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298620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Therapy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304776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001-43B4-45C9-9AF2-195E7A66D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ehavior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apy that applies learning principles to the elimination of unwante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1400" y="32767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treat phobias or sexual disorders, behavior therapists do not delve deeply below the surface looking for inner c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E99-3238-428C-B39D-DD7B1ECBCE4A}" type="slidenum">
              <a:t>20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assical Conditioning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unter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 procedure that conditions new responses to stimuli that trigger unwante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1400" y="3429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is based on classical conditioning and includes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xposure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versive 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89C-80F2-4FE3-AEBA-94F4ADEA85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osure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ose patients to things they fear and avoid. Through repeated exposures, anxiety lessens because they habituate to the things fe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16680" y="1981080"/>
            <a:ext cx="287172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5400000">
            <a:off x="6294240" y="3831120"/>
            <a:ext cx="359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Palatino Linotype"/>
              </a:rPr>
              <a:t>The Far Side © 1986 FARWORKS. Reprinted with Permission.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C8B-CE2C-4CF0-9B4F-F4A1848D013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6040" y="3124080"/>
            <a:ext cx="38307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osure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4360" y="1580760"/>
            <a:ext cx="8091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osure therapy involves exposing people to fear-driving objects in real or virtual enviro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5520" y="3124080"/>
            <a:ext cx="3809880" cy="296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32440" y="2552760"/>
            <a:ext cx="16876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5400000">
            <a:off x="3516120" y="5181840"/>
            <a:ext cx="16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N. Rown/ The Image 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7467840" y="4721760"/>
            <a:ext cx="266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Both Photos: Bob Mahoney/ The Image 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7BB-67FD-4F59-837A-15B848C65C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ystematic Desensit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ype of exposure therapy that associates a pleasant, relaxed state with gradually increasing anxiety-triggering stimuli commonly used to treat pho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594360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91B-E421-4945-ADBA-22F4291CDD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6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versive Cond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2600" y="16002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ype of counterconditioning that associates an unpleasant state with an unwanted behavior. With this technique, temporary conditioned aversion to alcohol has been re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9895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857-866B-4384-9248-13CF8D7562D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perant Cond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1419120"/>
            <a:ext cx="777240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perant conditioning procedures enable therapists to us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ehavior modification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hich desired behaviors are rewarded and undesired behaviors are either unrewarded or pu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400" y="3886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umber of withdrawn, uncommunicative      3-year-old autistic children have been successfully trained by giving and withdrawing reinforcements for desired and undesire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E42-88F2-4314-BEEC-28694564B824}" type="slidenum">
              <a:t>26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oke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institutional settings, therapists may create a token economy in which patients exchange a token of some sort, earned for exhibiting the desired behavior, for various privileges or tr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0B4-2AA5-4254-992B-D6DD10A723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ognitive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0840"/>
            <a:ext cx="7986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aches people adaptive ways of thinking and acting based on the assumption that thoughts intervene between events and our emotional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5334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565-AF76-4AD0-A99F-E89438F85B0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ck’s Therapy for De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1600" y="1590840"/>
            <a:ext cx="798660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aron Beck (1979) suggests that depressed patients believe that they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an never be hap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thinking) and thus associate minor failings (e.g. failing a test [event]) in life as major causes for their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1960" y="4105440"/>
            <a:ext cx="79866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ck believes that cognitions such as “I can never be happy” need to change in order for depressed patients to recover. This change is brought about by gently questioning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023-B91C-447D-AC2F-77900EBE8743}" type="slidenum">
              <a:t>29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Psychological 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istic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roup and Family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B26-335F-496D-9A0A-0486445D08C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ress Inocul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960" y="1600200"/>
            <a:ext cx="79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ichenbaum (1977, 1985) trained people to restructure their thinking in stressful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400" y="3429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ax, the exam may be hard, but it will be hard for everyone else too. I studied harder than most people. Besides, I don’t need a perfect score to get a good grad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681-51C7-4A2E-B51B-2B0AA7BD6E3F}" type="slidenum">
              <a:t>30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ognitive-Behavior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therapists often combine the reversal of self-defeated thinking with efforts to modify behav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gnitive-behavior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ims to alter the way people act (behavior therapy) and alter the way they think (cognitive therap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2C4-B9E4-435F-8A59-7659DC71CB3B}" type="slidenum">
              <a:t>31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roup &amp; Family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roup therapy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rmally consists of 6-9 people attending a 90-minute session that can help more people and costs less. Clients benefit from knowing others have similar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8840" y="3429000"/>
            <a:ext cx="5024520" cy="323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5400000">
            <a:off x="6039360" y="5429880"/>
            <a:ext cx="232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Mary Kate Denny/ PhotoEdi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EF3-3BC9-4F4A-9853-E7A3AA5D25F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Family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amily therapy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eats the family as a system. Therapy guides family members toward positive relationships and improved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400-153D-4A01-BA23-41235F31BCC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47360" y="160020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o do people turn to for help with psychological difficul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76680" y="2668680"/>
            <a:ext cx="4789440" cy="4071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valuating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29C-B936-4B83-A116-CB143B585F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s Psychotherapy Effect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is difficult to gauge the effectiveness of psychotherapy because there are different levels upon which its effectiveness can be measu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1200" y="3733920"/>
            <a:ext cx="755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oes the patient sense impro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oes the therapist feel the patient has im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friends and family feel about the patient’s impro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748-BCD6-45F4-9952-0BE601B126F6}" type="slidenum">
              <a:t>35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ent’s Per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you ask clients about their experiences of getting into therapy, they often overestimate its effectiveness. Critics however remain skep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1200" y="3581280"/>
            <a:ext cx="7557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ents enter therapy in crisis, but crisis may subside over the natural course of time (regression to normal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ents may need to believe the therapy was worth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ents generally speak kindly of their therap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9D8-30FA-4639-B3ED-4A46A5293BF6}" type="slidenum">
              <a:t>36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nician’s Per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clients, clinicians believe in therapy’s success. They believe the client is better off after therapy than if the client had not taken part in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00" y="3200400"/>
            <a:ext cx="7557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nicians are aware of failures, but they believe failures are the problem of other therap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f a client seeks another clinician, the former therapist is more likely to argue that the client has developed another psychological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nicians are likely to testify to the efficacy of their therapy regardless of the outcome of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F0F-74C2-47F7-AB5C-2DF88AB7D867}" type="slidenum">
              <a:t>37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utcom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can we objectively measure the effectiveness of psychotherap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" y="3200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ta-analysis of a number of studies suggests that thousands of patients benefit more from therapy than those who did not go to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D0A-E586-43D6-BCD2-025C4D2798F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utcom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earch shows that treated patients were 80% better than untreated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4560" y="2720880"/>
            <a:ext cx="6019560" cy="398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B6F-FED0-4010-B750-4AA9B3E4916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Evaluating Psycho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Psychotherapy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Relative Effectiveness of Different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aluating Alternative Therap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monalities Among Psycho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Values in 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559-3F73-4908-9813-04BC455ED7F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e Relative Effectiveness of Different 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1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ich psychotherapy would be most effective for treating a particular 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5880" y="2895480"/>
          <a:ext cx="7543800" cy="3162600"/>
        </p:xfrm>
        <a:graphic>
          <a:graphicData uri="http://schemas.openxmlformats.org/drawingml/2006/table">
            <a:tbl>
              <a:tblPr/>
              <a:tblGrid>
                <a:gridCol w="1981080"/>
                <a:gridCol w="556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is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herap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havior, Cognition, Interpers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nxie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gnition, Exposure, Stress Ino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uli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gnitive-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ho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d W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havior Mod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6B6-9616-4A5C-B322-3E1F6B57FA7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valuating Alternative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140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57% of those who have had anxiety attacks and 54% who have had depression have used alternative treatments such as herbal medicines, massage, and spiritual healing (Kessler &amp; others, 2001). Do alternative therapies hold up under scientific scruti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741-3EFC-424F-80EA-85AE0D0D809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ye Movement Desensitization and Reprocessing (EMD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4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EMDR therapy, the therapist attempts to unlock and reprocess previous frozen traumatic memories by waving a finger in front of the eyes of th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DR has not held up under scientific t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6A3-859C-46D3-8DE9-55E71063E72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77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ight Exposure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260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asonal Affective Disorder (SAD), a form of depression, has been effectively treated by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light exposure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This form of therapy has been scientifically valid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400000">
            <a:off x="7575840" y="5091120"/>
            <a:ext cx="185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ourtesy of Christine Bru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4DC-DD70-4687-AD1C-1FAF3CF4964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mmonalities Among Psycho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1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ree commonalities shared by all forms of psychotherapies ar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200400"/>
            <a:ext cx="3566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hope for demoralized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new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 empathic, trusting and caring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191120" cy="285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5400000">
            <a:off x="7722360" y="4820400"/>
            <a:ext cx="232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Mary Kate Denny/ PhotoEdi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718-02C1-4760-A538-E63A68D7779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lture and Values in Psycho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therapists may differ from each other and from clients in their personal beliefs, values, and cultural backgrou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1400" y="3733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herapist search should include visiting two or more therapists to judge which one makes the client feel more comfor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197-8965-4ECB-9763-13BD7F4CCADB}" type="slidenum">
              <a:t>45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rapists &amp; Their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linical psychologists: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hey have PhDs mostly. They are experts in research, assessment, and therapy, all of which is verified through a supervised inter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4290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linical or Psychiatric Social Worker: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y have a Masters of Social Work.  Postgraduate supervision prepares some social workers to offer psychotherapy, mostly to people with everyday personal and family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985-4792-4116-86AD-03A9E0B7AF6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rapists &amp; Their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unselors: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storal counselors or abuse counselors work with problems arising from family relations, spouse and child abusers and their victims, and substance ab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6576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iatrists: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y are physicians who specialize in the treatment of psychological disorders. Not all psychiatrists have extensive training in psychotherapy, but as MDs they can prescribe medic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5BC-7070-4E3E-A05C-DE38DB06F2A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medical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se include physical, medicinal, and other forms of biological thera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86080" y="3429000"/>
            <a:ext cx="4343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47C-8449-4ADA-BB2C-BDC367C53F2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9040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pharmacology is the study of drug effects on mind and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438280"/>
            <a:ext cx="7315200" cy="3395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120" y="579132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he advent of drugs, hospitalization in mental institutions has rapidly decl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E9C-D9D0-40E9-B086-07BCB6E475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90840" y="15951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Biomedical 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ti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apeutic Life-Styl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revent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50A-0A0E-4EBD-B651-E16D6876E6B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many patients are left homeless on the streets due to their ill-preparedness to cope independently outside in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44880" y="3200400"/>
            <a:ext cx="4825800" cy="2867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5400000">
            <a:off x="6119640" y="502200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Les Snider/ The Image 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465-39FD-486A-BB43-1E9DC45E23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ouble-Blin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4720" y="1600200"/>
            <a:ext cx="809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test the effectiveness of a drug, patients are tested with the drug and a placebo. Two groups of patients and medical health professionals are unaware of who is taking the drug and who is taking the placeb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FFB-D97E-47DB-9BEE-EA6C67FA2D3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tipsychotic Dru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3680" y="15998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lassical antipsychotic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[chlorpromazine (Thorazine)]: Remove a number of positive symptoms associated with schizophrenia such as agitation, delusions, and hallucin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" y="39625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typical antipsychotic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[clozapine (Clozaril)]: Remove negative symptoms associated with schizophrenia such as apathy, jumbled thoughts, concentration difficulties, and difficulties in interacting with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949-22F2-46A0-81C0-0B9A121D01C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typical Antipsych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ozapine (Clozaril) blocks receptors for dopamine and serotonin to remove the negative symptoms of schizophr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62240" y="3200400"/>
            <a:ext cx="45864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20B-72FE-4DDF-953F-E1B9FA38EC3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22560" y="3048120"/>
            <a:ext cx="3070440" cy="3581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tianxiety Dru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tianxiety drugs (Xanax and Ativan) depress the central nervous system and reduce anxiety and tension by elevating the levels of the Gamma-aminobutyric acid (GABA) neurotransmi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4040" y="4038480"/>
            <a:ext cx="7467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C57-02FC-42FE-B3F6-FA2214F4D2F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tidepressant Dru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880" y="1585440"/>
            <a:ext cx="7758000" cy="1871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tidepressant drugs like Prozac, Zoloft, and Paxil are Selective Serotonin Reuptake Inhibitors (SSRIs) that improve the mood by elevating levels of serotonin by inhibiting reup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6480" y="3605040"/>
            <a:ext cx="31575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294-93E1-4E23-B20E-8ACAEE8A7F6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od-Stabilizing Med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62920" cy="1828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thium Carbonate, a common salt, has been used to stabilize manic episodes in bipolar disorders. It moderates the levels of norepinephrine and glutamate neurotransmi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B1A-C22F-4939-A92F-D1D636B8A1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St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lectroconvulsive Therapy (E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CT is used for severely depressed patients who do not respond to drugs. The patient is anesthetized and given a muscle relaxant. Patients usually get a 100 volt shock that relieves them of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43520" y="1600200"/>
            <a:ext cx="42004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3B6-A06C-4D00-BC9E-F99F8AD8F95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lternatives to 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petitive Transcranial Magnetic Stimulation (rT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rTMS, a pulsating magnetic coil is placed over prefrontal regions of the brain to treat depression with minimal side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97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D24-7ABA-4C8D-A15A-A43697CAE9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228840" cy="4605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0880" y="1600200"/>
            <a:ext cx="419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 was popular even in Neolithic times. Although used sparingly today,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00 such operations do take place in the US 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7725240" y="5068800"/>
            <a:ext cx="197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pub.org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2A6-554C-4C26-A7B4-D13037224A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story of Insane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5400" y="3811680"/>
            <a:ext cx="5334120" cy="281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treatment of the insane throughout the ages was the result of irrational views. Many patients were subjected to strange, debilitating, and downright dangerous trea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733480" y="5756040"/>
            <a:ext cx="15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The Granger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564240" y="5756040"/>
            <a:ext cx="15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The Granger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682-1D14-4E80-8B00-9C51CE4CD48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096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 is used as a last resort in alleviating psychological disturbances. Psychosurgery is irreversible. Removal of brain tissue changes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57560" y="3429000"/>
            <a:ext cx="4572000" cy="31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ED5-41D2-43CB-83F8-1907773031C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revent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1600200"/>
            <a:ext cx="614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is better to prevent than cu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7040" y="213372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ruvian Folk Wis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960" y="32767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enting psychological disorders means removing the factors that affect society. Those factors may be poverty, meaningless work, constant criticism, unemployment, racism, and sex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D8A-9725-4F9B-B4F1-DE0CDEAF048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sychological Disorders are Biopsychosocial in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42960" y="1768320"/>
            <a:ext cx="601992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1D2-49B4-466D-8BCB-BE80FDF2C6F6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story of Insane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400" y="1433520"/>
            <a:ext cx="77724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ilippe Pinel in France and Dorthea Dix in America founded humane movements to care for the mentally si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043080" cy="2741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678040" cy="2698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5400000">
            <a:off x="3088800" y="51184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ihm.nlm.nih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3320" y="623304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hilippe Pinel (1745-182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1000" y="62460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orthea Dix (1802-188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7719480" y="559656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ulver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3F3-97B3-437E-8F52-BF3279DE19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volves an emotionally charged, confiding interaction between a trained therapist and a mental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3048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iomedical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uses drugs or other procedures that act on the patient’s nervous system, treating his or her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14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eclectic approach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uses various forms of healing techniques depending upon the client’s uniqu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582-EB6E-454B-8A13-CD34C9DF4B6F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will look at four major forms of psychotherapies based on different theories of human na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3000" y="3429000"/>
            <a:ext cx="5015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tic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istic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al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52D-C667-4AC2-96ED-DAE083C2B4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3:31Z</dcterms:modified>
  <cp:revision>1479</cp:revision>
  <dc:subject/>
  <dc:title>Memory</dc:title>
</cp:coreProperties>
</file>